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D6C9-F9DD-4F57-9435-DBDEA20D1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F079-FAC3-4A6E-B686-166497A3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B967-54BF-43CD-86A3-9D614CB5A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6F67-ED82-4D9E-8C3F-AC18CC53A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8692-0FEE-48F1-B2D1-281E4742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EBEB-03A5-4109-BF6F-E3530A12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5BDF-276C-43F7-AD75-C9E845DD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0BF6-C16F-4D8D-8BE7-DA56EB2B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5D64-0774-44BD-A38E-B19ECD60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F67B-9554-4939-92DF-D1570146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ACF3-DEC6-4962-BCA0-450D42D3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3DDC-A966-4128-8A93-39FD0E43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42A2-2CC6-46C9-BAB9-5995BFD86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madjack.ru/assets_c/2010/03/hosting-thumb-520x324-358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39.radikal.ru/i083/1002/13/ed0f267a6aaa.jpg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www.prinet.ru/yandex-srch.jpg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oft.oszone.net/images/screenshot/?soft=9892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netprofessional.ru/uploads/posts/1200855780_sc3-2a.gif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ledinn.ru/userfiles/burevestnik(1)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lavpoker.ru/spaw2/temp/images/uploaded_87dacf6a70d0714836c313a100dcf968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692360" y="476280"/>
            <a:ext cx="5832360" cy="4389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 u="sng">
                <a:solidFill>
                  <a:srgbClr val="009999"/>
                </a:solidFill>
                <a:uFillTx/>
                <a:latin typeface="Mistral"/>
              </a:rPr>
              <a:t>Электронная </a:t>
            </a:r>
            <a:br>
              <a:rPr sz="8800"/>
            </a:br>
            <a:r>
              <a:rPr b="0" i="1" lang="en-US" sz="8800" spc="-1" strike="noStrike" u="sng">
                <a:solidFill>
                  <a:srgbClr val="009999"/>
                </a:solidFill>
                <a:uFillTx/>
                <a:latin typeface="Mistral"/>
              </a:rPr>
              <a:t>коммерция </a:t>
            </a:r>
            <a:br>
              <a:rPr sz="8800"/>
            </a:br>
            <a:r>
              <a:rPr b="0" i="1" lang="en-US" sz="8800" spc="-1" strike="noStrike" u="sng">
                <a:solidFill>
                  <a:srgbClr val="009999"/>
                </a:solidFill>
                <a:uFillTx/>
                <a:latin typeface="Mistral"/>
              </a:rPr>
              <a:t>в Интернет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5373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аранцева О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итель информатики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У СОШ №1 г. Спасска Пензе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2296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be0e3"/>
                </a:solidFill>
                <a:latin typeface="Informal Roman"/>
              </a:rPr>
              <a:t>Электронная коммерция в Интернете — это коммерческая деятельность в сфере рекламы и распространения товаров и услуг посредством использования сети Интерн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5300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Informal Roman"/>
              </a:rPr>
              <a:t>В настоящее время электронная коммерция быстро развивается и, по статистике, уже более 200 миллионов человек во всем мире регулярно совершают покупки в Интернет-магазинах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924360" y="3357720"/>
            <a:ext cx="302400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be0e3"/>
                </a:solidFill>
                <a:latin typeface="Informal Roman"/>
              </a:rPr>
              <a:t>Хостинг – это услуга по размещению информации во Всемирной паутине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494172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Informal Roman"/>
              </a:rPr>
              <a:t>Хостинг включает в себя предоставление дискового пространства для размещения Web-сайтов на Web-серверах, предоставления к ним доступа по каналу связи с определенной пропускной способностью, а также прав администрирования сайт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Картинка 76 из 20033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76360" y="2133720"/>
            <a:ext cx="6192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Реклама в Интернете – это особый вид рекламы, который использует различные интернет-сре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556000" y="2205000"/>
            <a:ext cx="503280" cy="64764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35640" y="2205000"/>
            <a:ext cx="504720" cy="57636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11280" y="3141720"/>
            <a:ext cx="33843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медийная - в форме</a:t>
            </a:r>
            <a:endParaRPr b="0" i="1" lang="en-US" sz="20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баннерной ссылки</a:t>
            </a:r>
            <a:endParaRPr b="0" i="1" lang="en-US" sz="20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3280" y="3213000"/>
            <a:ext cx="33847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контекстная - рядом</a:t>
            </a:r>
            <a:endParaRPr b="0" i="1" lang="en-US" sz="20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с результами поиска</a:t>
            </a:r>
            <a:endParaRPr b="0" i="1" lang="en-US" sz="20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pic>
        <p:nvPicPr>
          <p:cNvPr id="55" name="" descr="Картинка 14 из 1756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4192560"/>
            <a:ext cx="3240000" cy="1938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Картинка 10 из 1019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4005360"/>
            <a:ext cx="3600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Доска объявлений – это сайт аналогичный обычным рекламным газетам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494172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Informal Roman"/>
              </a:rPr>
              <a:t>Простейшим вариантом электронной торговли являются виртуальные доски объявлений, где продавцы и покупатели просто обмениваются информацией о предлагаемом товаре (аналог газеты «Из рук в руки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Картинка 106 из 2401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24000" y="1989000"/>
            <a:ext cx="385308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Интернет-аукцион – это аукцион, проводящийся посредством Интернета дистанционно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494172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Informal Roman"/>
              </a:rPr>
              <a:t>Интересной формой электронной торговли являются Интернет-аукционы. На такие аукционы выставляются самые разные товары: произведения искусства, компьютерная техника, автомобили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Картинка 13 из 51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57680" y="2176560"/>
            <a:ext cx="373032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45352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Интернет-магазин – это веб-сайт, рекламирующий товар или услугу, принимающий заказы на покупку, предлагающий выбор варианта расчёта, способа получения заказа и выписывающий счёт на оплату.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1413000"/>
            <a:ext cx="33530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be0e3"/>
                </a:solidFill>
                <a:latin typeface="Informal Roman"/>
              </a:rPr>
              <a:t>Цифровые деньги – это специальное платёжное средство в электронном виде, которое находится на электронном носителе в распоряжении пользователя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4360" y="4149720"/>
            <a:ext cx="3095640" cy="192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Цифровые (электронные)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еньги выпускают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пециальные организа-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ции для развития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 финансирования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воей деятельности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7" name="" descr="Картинка 104 из 21503">
            <a:hlinkClick r:id="rId2"/>
          </p:cNvPr>
          <p:cNvPicPr/>
          <p:nvPr/>
        </p:nvPicPr>
        <p:blipFill>
          <a:blip r:embed="rId3"/>
          <a:srcRect l="0" t="20792" r="0" b="0"/>
          <a:stretch/>
        </p:blipFill>
        <p:spPr>
          <a:xfrm>
            <a:off x="3995640" y="3527280"/>
            <a:ext cx="4429080" cy="26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4360" y="836640"/>
            <a:ext cx="784836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1:29:46Z</dcterms:created>
  <dc:creator>Учитель</dc:creator>
  <dc:description/>
  <dc:language>en-US</dc:language>
  <cp:lastModifiedBy>учитель</cp:lastModifiedBy>
  <dcterms:modified xsi:type="dcterms:W3CDTF">2010-10-26T15:05:34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61411049</vt:lpwstr>
  </property>
</Properties>
</file>